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860-BB69-433F-8FD2-5FDBA91B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0B1-37C7-4338-B641-15D942DF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5DF-A96D-4DF3-9883-AF972BB2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9A-0B81-4CC4-8505-3D5D192B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2EA-44B0-403F-85D4-390AADA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00B-09DA-4A6C-97FA-0B64326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FBE-9EBB-462C-A990-85C7F3A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732-E00A-434D-BDA6-170CABE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3B2-4DE3-4C77-84E8-D0E64F65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3F7-A800-4E96-A5C4-16E070C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410-DF26-4B3B-A158-C963AA8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EDD-9112-4F25-A18B-4C4A96B5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D9B-6228-4B8D-A736-67D24899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Arial"/>
              </a:rPr>
              <a:t>Jake keeps sheep in the village.</a:t>
            </a: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A pretty creek runs behind the village park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 weak heel on my black shoe broke off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atch the little seals leap into the wat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Miss Beech will teach us about rain and sleet in science class today.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My buddy lives in a village near the rocky beach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A lady left a pretty green shoe in a locker at the gym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Arial"/>
              </a:rPr>
              <a:t>She was eager to find out who won the track meet at her school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n you guess who will give the best speech this week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I even like to watch the wheat sway in the breeze down on the far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He planted seeds in science class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Ann cleaned her muddy shoe.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Can you guess which team won the jeep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t’s fun to watch the baby eagles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ere are pretty trees on my street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We will read about streams in our science books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I guess he had a good reason to sleep so late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andy won a blue ribbon for her peach pi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teacher</cp:lastModifiedBy>
  <dcterms:modified xsi:type="dcterms:W3CDTF">2010-11-01T00:31:37Z</dcterms:modified>
  <cp:revision>31</cp:revision>
  <dc:subject/>
  <dc:title>He is always happy.</dc:title>
</cp:coreProperties>
</file>